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98A-7DE5-4652-8C8B-7951AAB4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A2A-ACAC-4645-9C35-04BAEA46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6C5-376C-49EC-9AEC-0909A026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6F2-4054-4D1D-8C65-A222F40F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AC9D-EAE6-4235-8E3B-6EB5788A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F212-1CA6-4296-9F43-E62E6334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16C9-28F6-4A61-B439-0E7A79ED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5A89-408B-4414-BD1F-DC23131F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EB8E-9ED5-454E-8974-CAA5CD69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37DC-B7E4-4BC6-B7CF-861F9923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8FB2-CEE5-4815-8820-E17A176F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45A-0A21-4ED2-925F-86609795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3F29-AC20-44E2-AF8D-E79C29F6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70A6-FE2C-435D-BE71-9D242722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1863-931F-4B56-990C-AD039848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7B26-8FB3-4D0F-B6C0-47F38762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EC05-2B73-43CD-A6BB-E59B3623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EAC-3A24-42E2-BCDE-6A7254CB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714-65F5-46FF-A453-6CE8863A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C3B-1571-4CCE-B5E9-C3565F94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02D-DC69-42A3-92F9-9BA18D5C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6F8-090E-463C-83EE-DF9A2070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00D-3515-4DE2-9FED-4F6D6331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1CA-114A-4F7E-890D-708A6172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3206-BF6E-4874-8452-0D4BFBB8DC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12C3-08EF-41D4-B211-5E16773B56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ffff"/>
                </a:solidFill>
                <a:latin typeface="Arial"/>
              </a:rPr>
              <a:t>КРАНИОЦЕРЕБРАЛНЕ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RS" sz="4800" spc="-1" strike="noStrike">
                <a:solidFill>
                  <a:srgbClr val="ffffff"/>
                </a:solidFill>
                <a:latin typeface="Arial"/>
              </a:rPr>
              <a:t>ПОВРЕД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зе се манифестовати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главобољо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спаност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онфузношћу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нкохерентним мишљење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радипсихијо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апатијо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епилептичним нападима тако да асоцира на мождани тумор или деменцију васкуларне или друге етиологиј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страни хематома може се наћи Хачинсонова зениц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УРОЛОШКИ ПРЕГЛЕД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вантитативни поремећаји све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мнолен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п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к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ГНОЗА И ИСХОД КРАНИОЦЕРЕБРАЛНИХ ПОВРЕ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оравак може трајати 2 године или дуж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ично 75% онога што ће се опоравити се опорави у првих 6 месец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бог овога је важно, поред осталог, рано започети са физикалном терапиј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КРАНИОЦЕРЕБРАЛНЕ ПОВРЕД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76520" indent="-3049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ffff00"/>
                </a:solidFill>
                <a:uFillTx/>
                <a:latin typeface="Arial"/>
              </a:rPr>
              <a:t>ПОТРЕС МОЗГА </a:t>
            </a:r>
            <a:r>
              <a:rPr b="0" lang="sr-Latn-CS" sz="28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mmotio cereb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7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76520" indent="-3049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ffff00"/>
                </a:solidFill>
                <a:uFillTx/>
                <a:latin typeface="Arial"/>
              </a:rPr>
              <a:t>НАГЊЕЧЕЊЕ МОЗГА </a:t>
            </a:r>
            <a:r>
              <a:rPr b="0" lang="sr-Latn-CS" sz="28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ntusio cerebri</a:t>
            </a:r>
            <a:r>
              <a:rPr b="1" lang="sr-Latn-CS" sz="28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7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76520" indent="-3049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ИТИСАК МОЗГА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essio cerebri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4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4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Ком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бесвесн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стањ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ком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болесни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одговар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адекватн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спољн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стимулус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унутрашњ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потреб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Савреме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дефинициј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ком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б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бил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болесник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коми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даје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вербалне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одговоре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извршава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команде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отвара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очи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спонтано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нити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било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који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</a:rPr>
              <a:t>стимулус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Ком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ни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посебн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обољењ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ве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последиц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разни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патолошки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стањ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ight Arrow 3"/>
          <p:cNvSpPr/>
          <p:nvPr/>
        </p:nvSpPr>
        <p:spPr>
          <a:xfrm>
            <a:off x="0" y="51814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00"/>
                </a:solidFill>
                <a:latin typeface="Arial"/>
              </a:rPr>
              <a:t>КВАНТИФИКАЦИЈА КОМА СКОР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 u="sng">
                <a:solidFill>
                  <a:srgbClr val="ff3300"/>
                </a:solidFill>
                <a:uFillTx/>
                <a:latin typeface="Arial"/>
              </a:rPr>
              <a:t>ГЛАЗГОВ КОМА СКА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0" lang="hr-HR" sz="3200" spc="-1" strike="noStrike" u="sng">
                <a:solidFill>
                  <a:srgbClr val="ff3300"/>
                </a:solidFill>
                <a:uFillTx/>
                <a:latin typeface="Arial"/>
              </a:rPr>
              <a:t>Glasgow Coma Scale</a:t>
            </a:r>
            <a:r>
              <a:rPr b="0" lang="sr-RS" sz="32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3300"/>
                </a:solidFill>
                <a:latin typeface="Arial"/>
              </a:rPr>
              <a:t>Отварање очиј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3300"/>
                </a:solidFill>
                <a:latin typeface="Arial"/>
              </a:rPr>
              <a:t>Моторни одгов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3300"/>
                </a:solidFill>
                <a:latin typeface="Arial"/>
              </a:rPr>
              <a:t>Вербални одгов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 u="sng">
                <a:solidFill>
                  <a:srgbClr val="ff3300"/>
                </a:solidFill>
                <a:uFillTx/>
                <a:latin typeface="Arial"/>
              </a:rPr>
              <a:t>ГЛАЗГОВ КОМА СКАЛА </a:t>
            </a:r>
            <a:br>
              <a:rPr sz="4400"/>
            </a:br>
            <a:r>
              <a:rPr b="0" lang="sr-RS" sz="44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0" lang="hr-HR" sz="4400" spc="-1" strike="noStrike" u="sng">
                <a:solidFill>
                  <a:srgbClr val="ff3300"/>
                </a:solidFill>
                <a:uFillTx/>
                <a:latin typeface="Arial"/>
              </a:rPr>
              <a:t>Glasgow Coma Scale</a:t>
            </a:r>
            <a:r>
              <a:rPr b="0" lang="sr-RS" sz="44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0" y="190476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u="sng">
                <a:solidFill>
                  <a:srgbClr val="ffff00"/>
                </a:solidFill>
                <a:uFillTx/>
                <a:latin typeface="Arial"/>
              </a:rPr>
              <a:t>ОТВАРАЊЕ ОЧИЈ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понатно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На позив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Болни стимулус 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Никако 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 u="sng">
                <a:solidFill>
                  <a:srgbClr val="ff3300"/>
                </a:solidFill>
                <a:uFillTx/>
                <a:latin typeface="Arial"/>
              </a:rPr>
              <a:t>ГЛАЗГОВ КОМА СКАЛА </a:t>
            </a:r>
            <a:br>
              <a:rPr sz="4400"/>
            </a:br>
            <a:r>
              <a:rPr b="0" lang="sr-RS" sz="44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0" lang="hr-HR" sz="4400" spc="-1" strike="noStrike" u="sng">
                <a:solidFill>
                  <a:srgbClr val="ff3300"/>
                </a:solidFill>
                <a:uFillTx/>
                <a:latin typeface="Arial"/>
              </a:rPr>
              <a:t>Glasgow Coma Scale</a:t>
            </a:r>
            <a:r>
              <a:rPr b="0" lang="sr-RS" sz="44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81080" y="1676520"/>
            <a:ext cx="548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Моторни од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звршава команде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Локализује подражај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збегава подражај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лексиони одговор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Екстензиони одговор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ма одговора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 u="sng">
                <a:solidFill>
                  <a:srgbClr val="ff3300"/>
                </a:solidFill>
                <a:uFillTx/>
                <a:latin typeface="Arial"/>
              </a:rPr>
              <a:t>ГЛАЗГОВ КОМА СКАЛА </a:t>
            </a:r>
            <a:br>
              <a:rPr sz="4400"/>
            </a:br>
            <a:r>
              <a:rPr b="0" lang="sr-RS" sz="44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0" lang="hr-HR" sz="4400" spc="-1" strike="noStrike" u="sng">
                <a:solidFill>
                  <a:srgbClr val="ff3300"/>
                </a:solidFill>
                <a:uFillTx/>
                <a:latin typeface="Arial"/>
              </a:rPr>
              <a:t>Glasgow Coma Scale</a:t>
            </a:r>
            <a:r>
              <a:rPr b="0" lang="sr-RS" sz="44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ербални одгов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Орјентисан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       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Конфузан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        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Непримерне речи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Неразумљиви звуци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Нема одговора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        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Повреде мозг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Глазгов кома скал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Бартел индек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ime go up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d go test;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ТАГ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тест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AC т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Arial"/>
              </a:rPr>
              <a:t>Тумачење резулта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У односу на Глазговску скалу кома трауматска оштећења мозга се могу поделити н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1. Блага трауматска оштећења мозга – ГЦС 13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2. Средње тешка трауматска оштећења мозга – ГЦС 9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3. Тешка трауматска оштећења мозга – ГЦС 3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Глазгов кома скала код де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Arial"/>
              </a:rPr>
              <a:t>Предности  ГК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КС је 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једноставна за употреб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 резултати мерења стања свести добивен овом скалом могу се 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релативно поуздан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истити за предвиђање исхода краниоцеребралне повре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Arial"/>
              </a:rPr>
              <a:t>Недостаци ГК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Недостаци се  виде када се користи за мерење степена оштећења мозга код оних пацијената који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осим мождане траум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имају и друге поремећаје у организму који могу утицати на стање све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Пацијенти у шоку, хипоксемији, или под утицајем психоактивних дрога, алкохола, метаболичких поремећаја и слично (могу имати лошије вредости ГКС него је стварна оштећеност мозга услед траум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Мала деца и особе са оштећењем кичмене мождине или траумом у пределу о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ight Arrow 3"/>
          <p:cNvSpPr/>
          <p:nvPr/>
        </p:nvSpPr>
        <p:spPr>
          <a:xfrm>
            <a:off x="0" y="3733920"/>
            <a:ext cx="838080" cy="457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ight Arrow 4"/>
          <p:cNvSpPr/>
          <p:nvPr/>
        </p:nvSpPr>
        <p:spPr>
          <a:xfrm>
            <a:off x="0" y="5867280"/>
            <a:ext cx="9144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цена нивоа парезе и парализе у клиничкој пракси најједноставније се може спровести помоћу скале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по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Arial"/>
              </a:rPr>
              <a:t>Wienck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-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09480" y="1981080"/>
          <a:ext cx="7925040" cy="4610160"/>
        </p:xfrm>
        <a:graphic>
          <a:graphicData uri="http://schemas.openxmlformats.org/drawingml/2006/table">
            <a:tbl>
              <a:tblPr/>
              <a:tblGrid>
                <a:gridCol w="1584360"/>
                <a:gridCol w="634068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а парез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 оцене парез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пуна слабост, затезање тетиве није могућ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ма покретљивости, могуће затезање тети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сок до максимални степен парезе, покрети преузимања сопствене тежине немогућ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сок степен парезе, покрети савлађивања сопствене тежине дисталних сегмената су могућ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реза средњег степена, могући покрети против лаког отпора терапеу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кша пареза, могући су покрети против јачег отпора терапеу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рмална снага, такође и после дужег физичког напо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Процена скелетних мишић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8600" y="83808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ла процене пристуства парезе, према Вин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nck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има 7 категориј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пуна слабост, затезање тетива није могуће (0 бодова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ма покретљивости, могуће затезање тетива (1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сок до максимални степен парезе, покрети преузиамња сопствене тежине су могући (2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сок степен парезе, покрети савладјивања сопствене тежине дисталних телесних сегмената су могући (3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еза средњег степена, могући покрети против лаког отпора терапеута (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акша пареза, могући покрети против јачег отпора терапеута (5)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на снага, такође и после дужег физичког нап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СТРУМЕНТИ КЛИНИЧКЕ ПРОЦЕН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онална евалуација болесника са инсултом пролази кроз три фаз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сификовање телесних и функционалн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граничења, њихова квантификација употребом инструмената клиничке процене током периода рехабилитације и крити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а добијених резулта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првој фази основни инструмент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ба да је Ме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ародна класификација функционисања, инвалидности и здрављ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НСТРУМЕНТИ КЛИНИЧКЕ ПРОЦЕН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едећи корак, квантификација функционалних поремећаја се врши уз помоћ одговарајућих инструмената клиничке процене, популарно названих скале или упитниц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ове сврхе постоје бројни такви инструменти а њихов конкратан одабир зависи од мноштва чинила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 u="sng">
                <a:solidFill>
                  <a:srgbClr val="ffff00"/>
                </a:solidFill>
                <a:uFillTx/>
                <a:latin typeface="Arial"/>
              </a:rPr>
              <a:t>ТЕСТОВИ ЗА ЕВАЛУАЦИЈУ ФУНКЦИЈЕ ЛОКОМОТОРНОГ АПАРАТА НАКОН ЦВ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362320" y="1599840"/>
            <a:ext cx="632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Barthel inde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.I.M. test (Funkcional Independence Measu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</a:rPr>
              <a:t>ТЕСТОВИ КРЕТАЊ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Barthel ind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744480"/>
          <a:ext cx="8077320" cy="6113520"/>
        </p:xfrm>
        <a:graphic>
          <a:graphicData uri="http://schemas.openxmlformats.org/drawingml/2006/table">
            <a:tbl>
              <a:tblPr/>
              <a:tblGrid>
                <a:gridCol w="590760"/>
                <a:gridCol w="2641680"/>
                <a:gridCol w="642600"/>
                <a:gridCol w="2525760"/>
                <a:gridCol w="1676520"/>
              </a:tblGrid>
              <a:tr h="59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HRANJEN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mostalno izvod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 tuđu pomoć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 tuđu pomoć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LIČNA TOAL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mostalno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 tuđu pomoć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 tuđu pomoć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UPAN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mostalno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 tuđu pomoć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 tuđu pomoć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BLAČEN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mostalno izvod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 tuđu pomoć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 tuđu pomoć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ONTROLA STOL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ntroliše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vremeni poremećaj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 kontroliš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ONTROLA MOKREN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ntroliše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vremeni poremećaj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 kontroliš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RANSVERI PRI UPOTREBI TOAL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mostal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 tuđu pomoć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 može da izve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RANSFER STOLICA KREV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mostal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 tuđu pomoć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 može da izve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mostal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 tuđu pomoć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 može da izve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RETANJE UZ STEPEN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mostal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 tuđu pomoć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 mož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ела краниоцеребралних повре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аниоцеребралне повреде подразумевај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 Прелом лобањ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конвекситета, базе лобање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цртасти, импресив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II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 Трауматско оштећење мозг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commotio cerebri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contusio cerebri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laceratio cerebri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compressio cereb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matom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800" spc="-1" strike="noStrike" u="sng">
                <a:solidFill>
                  <a:srgbClr val="ffffff"/>
                </a:solidFill>
                <a:uFillTx/>
                <a:latin typeface="Arial"/>
              </a:rPr>
              <a:t>Комбинација прва два оштећ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F.I.M. te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(Funkcional Independence Meas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2560" indent="-502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amozbrinjavan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7520" indent="-40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shra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07520" indent="-40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ična higije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07520" indent="-40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upa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07520" indent="-40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blačenje gornjeg dela odeć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07520" indent="-40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blačenje donjeg dela odeć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07520" indent="-40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al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2560" indent="-502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ontrola sfinkt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7520" indent="-40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ažnjenje beš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07520" indent="-40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ažnjenje debelog cre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2560" indent="-502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obilnost-transfe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7520" indent="-40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revet,stolica,ko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07520" indent="-40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al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07520" indent="-40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ada,tu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2560" indent="-502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retan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7520" indent="-40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od, ko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07520" indent="-40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tepen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2560" indent="-502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omunikacij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7520" indent="-40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azumeva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07520" indent="-40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zražava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2560" indent="-502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ocijalizac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7520" indent="-40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terreakcija sa okolin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Оцене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наведених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задатак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активност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ФИМ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тест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дате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седмостепено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ск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752480"/>
          <a:ext cx="8229600" cy="4378320"/>
        </p:xfrm>
        <a:graphic>
          <a:graphicData uri="http://schemas.openxmlformats.org/drawingml/2006/table">
            <a:tbl>
              <a:tblPr/>
              <a:tblGrid>
                <a:gridCol w="7162920"/>
                <a:gridCol w="106668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"7"potpuna nezavisn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"6".modifikovana nezavisn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ifikovana zavisn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"4" nadgledanje(učešće pacijenta=75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"3" minimalna asistencija(učešće pacijenta=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"2" maksimalna asistencija(učešće pacijenta=25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"1" potpuna zavisnost pacijenta( učešća pacijenta=0%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стови способности ходањ</a:t>
            </a: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ст способности хода код болесника са хемиплегијом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б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 је једноставан и употребљив у клиничкој пракс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је сензитиван и валидан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 одсликава свакодневне способности пацијента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 се лако може интерпретира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стови способности ходањ</a:t>
            </a: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стови кој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уњавају ове захтеве с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кционални тест кретања (енгл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Functional Ambulation Gategory”-FA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сетометарни тест хода, шесто- или дванаестоминутни тест ходањ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УГ тест (енгл.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Timed Up &amp; Go Test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”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еп тес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вермед тест (енгл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ermead Motor Assessmen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ала моторне процене (енгл.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Motor Assessment Scale”)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ФУНКЦИОНАЛНИ ТЕСТ КРЕТАЊА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 Functional Ambulation Gategory (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FAC</a:t>
            </a:r>
            <a:r>
              <a:rPr b="1" i="1" lang="sr-Latn-C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8229600" cy="5059440"/>
        </p:xfrm>
        <a:graphic>
          <a:graphicData uri="http://schemas.openxmlformats.org/drawingml/2006/table">
            <a:tbl>
              <a:tblPr/>
              <a:tblGrid>
                <a:gridCol w="6858000"/>
                <a:gridCol w="137160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cijent ne može da ide ili zahteva pomoć dve osob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Pacijent zahteva pomoć jedne osobe u cilju održavanja ravnotež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Pacijent zahteva intermedijarnu pomoć jedne osobe kod hoda,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igurnosti ravoteže, i koordinacije hod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Pacijent iziskuje potrebu verbalne potpore ili praćenja od strane jedne osobe (psihička potpor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Pacijent je samostalan po ravnom terenu pri hod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zahteva minimalnu pomoć kod savladjivanja stepenic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amostalan u okviru svih zahteva AD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Timed Up &amp; Go Test (</a:t>
            </a:r>
            <a:r>
              <a:rPr b="1" i="1" lang="sr-R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r-R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ТАГ ТЕСТ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) -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Mathias , Richards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24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Пацијен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устаје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с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једне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стандардизоване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лице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ход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тр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метр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враћ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се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назад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сед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н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лиц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Мер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се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време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з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које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пацијен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потрош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од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устајањ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до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поновног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седањ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н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лиц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ниоцеребралне повреде се деле и на затворене и отворен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орена повреда знаци прекид континуитета поглавине, кости и мозданих опни, а затворена сачуваност ових струк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motio cerebri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 – потрес моз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Представља </a:t>
            </a:r>
            <a:r>
              <a:rPr b="1" lang="sr-RS" sz="3200" spc="-1" strike="noStrike" u="sng">
                <a:solidFill>
                  <a:srgbClr val="ffffff"/>
                </a:solidFill>
                <a:uFillTx/>
                <a:latin typeface="Arial"/>
              </a:rPr>
              <a:t>функциони поремећај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мозданог стабла, јер се линија сила при удару у лобању секу кроз ове структу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usio cerebri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 – нагњечење моз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аје на два начина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 Ударом предмета у лобању која мирује; удар изазива улегнуће кости, а исправљање улегнућа даје негативни притисак на месту удара и ту се формира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онтузионо жаришт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 Ударом покретне лобање о чврсту подлогу (пад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usio cerebri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 – нагњечење моз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Губитак свести обично је дуготрајниј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Компликације су субарахноидна хеморагија, субдурална и екстрадурална хеморагија и интрацеребрална хеморагиј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ff"/>
                </a:solidFill>
                <a:latin typeface="Arial"/>
              </a:rPr>
              <a:t>Субдурални хемат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Настаје због изливања крви у простору између дуре и арахноидеје. То је венско, споро крвављењ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Болесник је коматозан. Ако је локализован у задњој лобањској јами биће праћен повраћањем, главобољом, оштећењем кранијалних живаца и атаксиј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Лечење је хируршко, а прогноза зависи од осталих оштећења (контузије, лацерациј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Може бити акутан и хронич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21:58:38Z</dcterms:created>
  <dc:creator>Veljkovic Miodrag</dc:creator>
  <dc:description/>
  <dc:language>en-US</dc:language>
  <cp:lastModifiedBy>Windows User</cp:lastModifiedBy>
  <dcterms:modified xsi:type="dcterms:W3CDTF">2020-02-12T09:43:06Z</dcterms:modified>
  <cp:revision>66</cp:revision>
  <dc:subject/>
  <dc:title>KRANIOCEREBRALNE  POVREDE</dc:title>
</cp:coreProperties>
</file>